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AA61-B7B3-4A72-9700-FDAD2279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07840" y="274320"/>
            <a:ext cx="5422680" cy="826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07840" y="1375920"/>
            <a:ext cx="788508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07840" y="3750120"/>
            <a:ext cx="788508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F33-8C17-4309-9E90-57E7D3B9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07840" y="274320"/>
            <a:ext cx="5422680" cy="826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07840" y="1375920"/>
            <a:ext cx="384768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48120" y="1375920"/>
            <a:ext cx="384768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07840" y="3750120"/>
            <a:ext cx="384768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48120" y="3750120"/>
            <a:ext cx="384768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121-F3D1-4FEE-B8E9-F786B366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07840" y="274320"/>
            <a:ext cx="5422680" cy="826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07840" y="1375920"/>
            <a:ext cx="253872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74000" y="1375920"/>
            <a:ext cx="253872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039800" y="1375920"/>
            <a:ext cx="253872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07840" y="3750120"/>
            <a:ext cx="253872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74000" y="3750120"/>
            <a:ext cx="253872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039800" y="3750120"/>
            <a:ext cx="253872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3F42-5067-4904-B722-F98898C4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A0F4-9A47-4E4A-92E2-983014D8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07840" y="274320"/>
            <a:ext cx="5422680" cy="826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07840" y="1375920"/>
            <a:ext cx="788508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6B25-CB53-4185-B93A-07C4C683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07840" y="274320"/>
            <a:ext cx="5422680" cy="826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07840" y="1375920"/>
            <a:ext cx="7885080" cy="4545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636C-116E-4A7A-819A-787D81B1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7840" y="274320"/>
            <a:ext cx="5422680" cy="826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07840" y="1375920"/>
            <a:ext cx="3847680" cy="4545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48120" y="1375920"/>
            <a:ext cx="3847680" cy="4545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63DD-8344-445A-B6B6-2FCFA9C5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07840" y="274320"/>
            <a:ext cx="5422680" cy="826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F176-7328-4C96-B555-264FE92E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707840" y="274320"/>
            <a:ext cx="542268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7E33-BCA8-41F5-8581-B3896BEC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07840" y="274320"/>
            <a:ext cx="5422680" cy="826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07840" y="1375920"/>
            <a:ext cx="384768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48120" y="1375920"/>
            <a:ext cx="3847680" cy="4545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07840" y="3750120"/>
            <a:ext cx="384768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AE50-3D91-4F26-941B-46A57C2D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07840" y="274320"/>
            <a:ext cx="5422680" cy="826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07840" y="1375920"/>
            <a:ext cx="788508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962-B3C8-4E8C-84ED-069B91D4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07840" y="274320"/>
            <a:ext cx="5422680" cy="826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07840" y="1375920"/>
            <a:ext cx="3847680" cy="4545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48120" y="1375920"/>
            <a:ext cx="384768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48120" y="3750120"/>
            <a:ext cx="384768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6F3D-26AF-4DC9-8A31-730C60D3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07840" y="274320"/>
            <a:ext cx="5422680" cy="826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07840" y="1375920"/>
            <a:ext cx="384768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48120" y="1375920"/>
            <a:ext cx="384768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07840" y="3750120"/>
            <a:ext cx="788508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B4DC-A1D3-4BD4-923A-5A71EA30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07840" y="274320"/>
            <a:ext cx="5422680" cy="826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07840" y="1375920"/>
            <a:ext cx="788508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07840" y="3750120"/>
            <a:ext cx="788508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CA1E-67F7-4E4B-BFC6-054E9587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07840" y="274320"/>
            <a:ext cx="5422680" cy="826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07840" y="1375920"/>
            <a:ext cx="384768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748120" y="1375920"/>
            <a:ext cx="384768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07840" y="3750120"/>
            <a:ext cx="384768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748120" y="3750120"/>
            <a:ext cx="384768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7A75-2279-4DDB-910A-DEC8A758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07840" y="274320"/>
            <a:ext cx="5422680" cy="826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07840" y="1375920"/>
            <a:ext cx="253872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74000" y="1375920"/>
            <a:ext cx="253872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039800" y="1375920"/>
            <a:ext cx="253872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07840" y="3750120"/>
            <a:ext cx="253872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74000" y="3750120"/>
            <a:ext cx="253872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039800" y="3750120"/>
            <a:ext cx="253872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08F8-2C08-425F-9CE1-E4D0BB8C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07840" y="274320"/>
            <a:ext cx="5422680" cy="826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07840" y="1375920"/>
            <a:ext cx="7885080" cy="4545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35F9-5346-4E8F-B904-3AC51E9A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07840" y="274320"/>
            <a:ext cx="5422680" cy="826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07840" y="1375920"/>
            <a:ext cx="3847680" cy="4545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48120" y="1375920"/>
            <a:ext cx="3847680" cy="4545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0C21-51E3-43F9-AE81-8DA2E681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07840" y="274320"/>
            <a:ext cx="5422680" cy="826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7037-414C-45F0-93C7-9F83E33E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07840" y="274320"/>
            <a:ext cx="542268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AB07-3B68-4F79-8AD4-33BC6FE0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07840" y="274320"/>
            <a:ext cx="5422680" cy="826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07840" y="1375920"/>
            <a:ext cx="384768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48120" y="1375920"/>
            <a:ext cx="3847680" cy="4545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07840" y="3750120"/>
            <a:ext cx="384768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2F39-12BE-4A75-880C-A42E11E7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07840" y="274320"/>
            <a:ext cx="5422680" cy="826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07840" y="1375920"/>
            <a:ext cx="3847680" cy="4545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48120" y="1375920"/>
            <a:ext cx="384768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48120" y="3750120"/>
            <a:ext cx="384768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BF4F-BD0F-4EF5-B62A-E5C7C1CC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07840" y="274320"/>
            <a:ext cx="5422680" cy="826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07840" y="1375920"/>
            <a:ext cx="384768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48120" y="1375920"/>
            <a:ext cx="384768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07840" y="3750120"/>
            <a:ext cx="7885080" cy="216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B9CA-743E-425D-BB41-AF802107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adedGlobe_Text.avi" descr=""/>
          <p:cNvPicPr/>
          <p:nvPr/>
        </p:nvPicPr>
        <p:blipFill>
          <a:blip r:embed="rId3"/>
          <a:stretch/>
        </p:blipFill>
        <p:spPr>
          <a:xfrm>
            <a:off x="365040" y="281160"/>
            <a:ext cx="1181160" cy="1180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07840" y="274320"/>
            <a:ext cx="5422680" cy="826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07840" y="1375920"/>
            <a:ext cx="7885080" cy="4545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58920" indent="-3589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3002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7000" indent="-2383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5680" indent="-23940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5680" indent="-23940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5680" indent="-23940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07840" y="6265800"/>
            <a:ext cx="2082600" cy="480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89240" y="6265800"/>
            <a:ext cx="3051360" cy="480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35800" y="6265800"/>
            <a:ext cx="2082960" cy="480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1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4EFD-8060-40E0-8427-882F99436E6D}" type="slidenum">
              <a:rPr b="1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5" descr="logo"/>
          <p:cNvPicPr/>
          <p:nvPr/>
        </p:nvPicPr>
        <p:blipFill>
          <a:blip r:embed="rId4"/>
          <a:stretch/>
        </p:blipFill>
        <p:spPr>
          <a:xfrm>
            <a:off x="7797960" y="201600"/>
            <a:ext cx="2108160" cy="396720"/>
          </a:xfrm>
          <a:prstGeom prst="rect">
            <a:avLst/>
          </a:prstGeom>
          <a:ln w="0">
            <a:noFill/>
          </a:ln>
        </p:spPr>
      </p:pic>
      <p:sp>
        <p:nvSpPr>
          <p:cNvPr id="7" name="Oval 22"/>
          <p:cNvSpPr/>
          <p:nvPr/>
        </p:nvSpPr>
        <p:spPr>
          <a:xfrm>
            <a:off x="9237600" y="6357960"/>
            <a:ext cx="282600" cy="32400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32A0785-938B-44AC-A811-5DB10F94DB9A}" type="slidenum">
              <a:rPr b="1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adedGlobe_Title.avi" descr=""/>
          <p:cNvPicPr/>
          <p:nvPr/>
        </p:nvPicPr>
        <p:blipFill>
          <a:blip r:embed="rId3"/>
          <a:stretch/>
        </p:blipFill>
        <p:spPr>
          <a:xfrm>
            <a:off x="1092240" y="2644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logo"/>
          <p:cNvPicPr/>
          <p:nvPr/>
        </p:nvPicPr>
        <p:blipFill>
          <a:blip r:embed="rId4"/>
          <a:stretch/>
        </p:blipFill>
        <p:spPr>
          <a:xfrm>
            <a:off x="4740120" y="6162840"/>
            <a:ext cx="2109960" cy="461880"/>
          </a:xfrm>
          <a:prstGeom prst="rect">
            <a:avLst/>
          </a:prstGeom>
          <a:ln w="0">
            <a:noFill/>
          </a:ln>
        </p:spPr>
      </p:pic>
      <p:sp>
        <p:nvSpPr>
          <p:cNvPr id="46" name="Oval 12"/>
          <p:cNvSpPr/>
          <p:nvPr/>
        </p:nvSpPr>
        <p:spPr>
          <a:xfrm>
            <a:off x="9169560" y="6291360"/>
            <a:ext cx="350640" cy="39060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965FC5E-9E16-4B5E-A2F0-B7A5F11B1EE8}" type="slidenum">
              <a:rPr b="1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32" descr="우체국"/>
          <p:cNvPicPr/>
          <p:nvPr/>
        </p:nvPicPr>
        <p:blipFill>
          <a:blip r:embed="rId5"/>
          <a:stretch/>
        </p:blipFill>
        <p:spPr>
          <a:xfrm>
            <a:off x="0" y="0"/>
            <a:ext cx="9906120" cy="2583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07840" y="274320"/>
            <a:ext cx="5422680" cy="826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707840" y="1375920"/>
            <a:ext cx="7885080" cy="4545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58920" indent="-3589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3002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7000" indent="-2383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5680" indent="-23940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5680" indent="-23940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5680" indent="-23940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528640" y="6195600"/>
            <a:ext cx="1709640" cy="482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684680" y="6195600"/>
            <a:ext cx="2230560" cy="482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343640" y="6226200"/>
            <a:ext cx="2176560" cy="4824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291C-A7BC-4054-8CC9-F0DC073E3216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03160" y="2684160"/>
            <a:ext cx="6543720" cy="826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굴림"/>
              </a:rPr>
              <a:t>SLP-D420 </a:t>
            </a:r>
            <a:r>
              <a:rPr b="1" lang="ko-KR" sz="3900" spc="-1" strike="noStrike">
                <a:solidFill>
                  <a:srgbClr val="000000"/>
                </a:solidFill>
                <a:latin typeface="Times New Roman"/>
                <a:ea typeface="굴림"/>
              </a:rPr>
              <a:t>설치매뉴얼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모서리가 둥근 직사각형 5"/>
          <p:cNvSpPr/>
          <p:nvPr/>
        </p:nvSpPr>
        <p:spPr>
          <a:xfrm>
            <a:off x="1708200" y="631800"/>
            <a:ext cx="2471760" cy="3888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marL="431640" indent="-43164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3.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설치방법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(XP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001"/>
          <p:cNvSpPr/>
          <p:nvPr/>
        </p:nvSpPr>
        <p:spPr>
          <a:xfrm>
            <a:off x="5584680" y="3228840"/>
            <a:ext cx="40053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13.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인쇄기본설정에서 </a:t>
            </a:r>
            <a:r>
              <a:rPr b="1" lang="en-US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ABOUT</a:t>
            </a:r>
            <a:r>
              <a:rPr b="1" lang="ko-KR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탭 선택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후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     </a:t>
            </a:r>
            <a:r>
              <a:rPr b="1" lang="ko-KR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버전이 </a:t>
            </a:r>
            <a:r>
              <a:rPr b="1" lang="en-US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4.6.64</a:t>
            </a:r>
            <a:r>
              <a:rPr b="1" lang="ko-KR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인지 확인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모서리가 둥근 직사각형 5"/>
          <p:cNvSpPr/>
          <p:nvPr/>
        </p:nvSpPr>
        <p:spPr>
          <a:xfrm>
            <a:off x="1708200" y="631800"/>
            <a:ext cx="2892240" cy="3888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marL="431640" indent="-43164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4.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설치방법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(XP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7"/>
          <p:cNvGrpSpPr/>
          <p:nvPr/>
        </p:nvGrpSpPr>
        <p:grpSpPr>
          <a:xfrm>
            <a:off x="1370160" y="1411200"/>
            <a:ext cx="4003560" cy="4880160"/>
            <a:chOff x="1370160" y="1411200"/>
            <a:chExt cx="4003560" cy="4880160"/>
          </a:xfrm>
        </p:grpSpPr>
        <p:pic>
          <p:nvPicPr>
            <p:cNvPr id="193" name="Picture 5" descr="111"/>
            <p:cNvPicPr/>
            <p:nvPr/>
          </p:nvPicPr>
          <p:blipFill>
            <a:blip r:embed="rId1"/>
            <a:srcRect l="46461" t="21943" r="19884" b="22689"/>
            <a:stretch/>
          </p:blipFill>
          <p:spPr>
            <a:xfrm>
              <a:off x="1370160" y="1411200"/>
              <a:ext cx="4003560" cy="488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Rectangle 6"/>
            <p:cNvSpPr/>
            <p:nvPr/>
          </p:nvSpPr>
          <p:spPr>
            <a:xfrm>
              <a:off x="4530960" y="1736640"/>
              <a:ext cx="687600" cy="261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모서리가 둥근 직사각형 5"/>
          <p:cNvSpPr/>
          <p:nvPr/>
        </p:nvSpPr>
        <p:spPr>
          <a:xfrm>
            <a:off x="1708200" y="631800"/>
            <a:ext cx="3876480" cy="3888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marL="431640" indent="-43164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3.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드라이버 설치방법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(XP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모서리가 둥근 직사각형 5"/>
          <p:cNvSpPr/>
          <p:nvPr/>
        </p:nvSpPr>
        <p:spPr>
          <a:xfrm>
            <a:off x="1708200" y="631800"/>
            <a:ext cx="4087800" cy="3888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marL="431640" indent="-43164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4.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드라이버 설치방법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(WIN7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852"/>
          <p:cNvSpPr/>
          <p:nvPr/>
        </p:nvSpPr>
        <p:spPr>
          <a:xfrm>
            <a:off x="1509840" y="1477800"/>
            <a:ext cx="7940520" cy="4685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001"/>
          <p:cNvSpPr/>
          <p:nvPr/>
        </p:nvSpPr>
        <p:spPr>
          <a:xfrm>
            <a:off x="1509840" y="1477800"/>
            <a:ext cx="7940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1.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프린터 로컬 연결 완료 후 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OF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2.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프린터 설치 프로그램 실행 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(SLP-D420 V4.6.64_POST2011.EX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6" descr="1"/>
          <p:cNvPicPr/>
          <p:nvPr/>
        </p:nvPicPr>
        <p:blipFill>
          <a:blip r:embed="rId1"/>
          <a:srcRect l="0" t="24885" r="0" b="0"/>
          <a:stretch/>
        </p:blipFill>
        <p:spPr>
          <a:xfrm>
            <a:off x="1911240" y="2408400"/>
            <a:ext cx="658332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15"/>
          <p:cNvGrpSpPr/>
          <p:nvPr/>
        </p:nvGrpSpPr>
        <p:grpSpPr>
          <a:xfrm>
            <a:off x="1087560" y="1216080"/>
            <a:ext cx="4497120" cy="2574720"/>
            <a:chOff x="1087560" y="1216080"/>
            <a:chExt cx="4497120" cy="2574720"/>
          </a:xfrm>
        </p:grpSpPr>
        <p:pic>
          <p:nvPicPr>
            <p:cNvPr id="201" name="Picture 13" descr="2"/>
            <p:cNvPicPr/>
            <p:nvPr/>
          </p:nvPicPr>
          <p:blipFill>
            <a:blip r:embed="rId1"/>
            <a:srcRect l="17513" t="24885" r="17513" b="24903"/>
            <a:stretch/>
          </p:blipFill>
          <p:spPr>
            <a:xfrm>
              <a:off x="1087560" y="1216080"/>
              <a:ext cx="4497120" cy="25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Rectangle 4"/>
            <p:cNvSpPr/>
            <p:nvPr/>
          </p:nvSpPr>
          <p:spPr>
            <a:xfrm>
              <a:off x="3378600" y="3485160"/>
              <a:ext cx="701280" cy="259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Text Box 1001"/>
          <p:cNvSpPr/>
          <p:nvPr/>
        </p:nvSpPr>
        <p:spPr>
          <a:xfrm>
            <a:off x="5656320" y="2452680"/>
            <a:ext cx="40053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3. InstallShield Wizard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나오면 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‘</a:t>
            </a:r>
            <a:r>
              <a:rPr b="1" lang="ko-KR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다음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’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클릭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01"/>
          <p:cNvSpPr/>
          <p:nvPr/>
        </p:nvSpPr>
        <p:spPr>
          <a:xfrm>
            <a:off x="5656320" y="4881600"/>
            <a:ext cx="3935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4. Port Type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선택화면 나오면 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‘</a:t>
            </a:r>
            <a:r>
              <a:rPr b="1" lang="en-US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USB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’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선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 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후 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‘</a:t>
            </a:r>
            <a:r>
              <a:rPr b="1" lang="en-US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Next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’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클릭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16"/>
          <p:cNvGrpSpPr/>
          <p:nvPr/>
        </p:nvGrpSpPr>
        <p:grpSpPr>
          <a:xfrm>
            <a:off x="1087560" y="4041720"/>
            <a:ext cx="4497120" cy="2121120"/>
            <a:chOff x="1087560" y="4041720"/>
            <a:chExt cx="4497120" cy="2121120"/>
          </a:xfrm>
        </p:grpSpPr>
        <p:pic>
          <p:nvPicPr>
            <p:cNvPr id="206" name="Picture 14" descr="3"/>
            <p:cNvPicPr/>
            <p:nvPr/>
          </p:nvPicPr>
          <p:blipFill>
            <a:blip r:embed="rId2"/>
            <a:srcRect l="32879" t="37438" r="33466" b="41147"/>
            <a:stretch/>
          </p:blipFill>
          <p:spPr>
            <a:xfrm>
              <a:off x="1087560" y="4041720"/>
              <a:ext cx="4497120" cy="21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Rectangle 8"/>
            <p:cNvSpPr/>
            <p:nvPr/>
          </p:nvSpPr>
          <p:spPr>
            <a:xfrm>
              <a:off x="1889640" y="5482440"/>
              <a:ext cx="701280" cy="2595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3801240" y="5425200"/>
              <a:ext cx="1011600" cy="390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2633400" y="5422320"/>
              <a:ext cx="492480" cy="437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ko-KR" sz="23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①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1"/>
            <p:cNvSpPr/>
            <p:nvPr/>
          </p:nvSpPr>
          <p:spPr>
            <a:xfrm>
              <a:off x="4530960" y="4925520"/>
              <a:ext cx="421560" cy="437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ko-KR" sz="23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②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모서리가 둥근 직사각형 5"/>
          <p:cNvSpPr/>
          <p:nvPr/>
        </p:nvSpPr>
        <p:spPr>
          <a:xfrm>
            <a:off x="1708200" y="631800"/>
            <a:ext cx="4087800" cy="3888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marL="431640" indent="-43164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4.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드라이버 설치방법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(WIN7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001"/>
          <p:cNvSpPr/>
          <p:nvPr/>
        </p:nvSpPr>
        <p:spPr>
          <a:xfrm>
            <a:off x="5726160" y="1932120"/>
            <a:ext cx="393552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5.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옆 그림과 같이 나오면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   </a:t>
            </a:r>
            <a:r>
              <a:rPr b="1" lang="en-US" sz="1500" spc="-1" strike="noStrike" u="sng">
                <a:solidFill>
                  <a:srgbClr val="0000ff"/>
                </a:solidFill>
                <a:uFillTx/>
                <a:latin typeface="Arial"/>
                <a:ea typeface="산돌고딕 L"/>
              </a:rPr>
              <a:t>‘</a:t>
            </a:r>
            <a:r>
              <a:rPr b="1" lang="ko-KR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이 드라이버 소프트웨어를 설치합니다</a:t>
            </a:r>
            <a:r>
              <a:rPr b="1" lang="ko-KR" sz="1500" spc="-1" strike="noStrike" u="sng">
                <a:solidFill>
                  <a:srgbClr val="0000ff"/>
                </a:solidFill>
                <a:uFillTx/>
                <a:latin typeface="Arial"/>
                <a:ea typeface="산돌고딕 L"/>
              </a:rPr>
              <a:t>’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  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클릭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001"/>
          <p:cNvSpPr/>
          <p:nvPr/>
        </p:nvSpPr>
        <p:spPr>
          <a:xfrm>
            <a:off x="5586480" y="4340160"/>
            <a:ext cx="40053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6.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완료되었다는 메시지 나오면 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‘</a:t>
            </a:r>
            <a:r>
              <a:rPr b="1" lang="ko-KR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확인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’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클릭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12"/>
          <p:cNvGrpSpPr/>
          <p:nvPr/>
        </p:nvGrpSpPr>
        <p:grpSpPr>
          <a:xfrm>
            <a:off x="1017720" y="1295280"/>
            <a:ext cx="4638600" cy="2589480"/>
            <a:chOff x="1017720" y="1295280"/>
            <a:chExt cx="4638600" cy="2589480"/>
          </a:xfrm>
        </p:grpSpPr>
        <p:pic>
          <p:nvPicPr>
            <p:cNvPr id="215" name="Picture 10" descr="4"/>
            <p:cNvPicPr/>
            <p:nvPr/>
          </p:nvPicPr>
          <p:blipFill>
            <a:blip r:embed="rId1"/>
            <a:srcRect l="29324" t="30063" r="30511" b="39667"/>
            <a:stretch/>
          </p:blipFill>
          <p:spPr>
            <a:xfrm>
              <a:off x="1017720" y="1295280"/>
              <a:ext cx="4638600" cy="25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6"/>
            <p:cNvSpPr/>
            <p:nvPr/>
          </p:nvSpPr>
          <p:spPr>
            <a:xfrm>
              <a:off x="1508760" y="2636280"/>
              <a:ext cx="4006440" cy="9223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13"/>
          <p:cNvGrpSpPr/>
          <p:nvPr/>
        </p:nvGrpSpPr>
        <p:grpSpPr>
          <a:xfrm>
            <a:off x="1300320" y="4079880"/>
            <a:ext cx="4073400" cy="2016000"/>
            <a:chOff x="1300320" y="4079880"/>
            <a:chExt cx="4073400" cy="2016000"/>
          </a:xfrm>
        </p:grpSpPr>
        <p:pic>
          <p:nvPicPr>
            <p:cNvPr id="218" name="Picture 7" descr="5"/>
            <p:cNvPicPr/>
            <p:nvPr/>
          </p:nvPicPr>
          <p:blipFill>
            <a:blip r:embed="rId2"/>
            <a:srcRect l="32879" t="35972" r="32879" b="41147"/>
            <a:stretch/>
          </p:blipFill>
          <p:spPr>
            <a:xfrm>
              <a:off x="1300320" y="4079880"/>
              <a:ext cx="407340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Rectangle 8"/>
            <p:cNvSpPr/>
            <p:nvPr/>
          </p:nvSpPr>
          <p:spPr>
            <a:xfrm>
              <a:off x="3885480" y="5472000"/>
              <a:ext cx="1025280" cy="33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모서리가 둥근 직사각형 5"/>
          <p:cNvSpPr/>
          <p:nvPr/>
        </p:nvSpPr>
        <p:spPr>
          <a:xfrm>
            <a:off x="1708200" y="631800"/>
            <a:ext cx="4087800" cy="3888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marL="431640" indent="-43164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4.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드라이버 설치방법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(WIN7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001"/>
          <p:cNvSpPr/>
          <p:nvPr/>
        </p:nvSpPr>
        <p:spPr>
          <a:xfrm>
            <a:off x="5900760" y="2193840"/>
            <a:ext cx="4005360" cy="30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8.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드라이버 자동설치 되며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   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설치 완료되면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산돌고딕 L"/>
              </a:rPr>
              <a:t>‘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장치 및 프린터</a:t>
            </a: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산돌고딕 L"/>
              </a:rPr>
              <a:t>’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   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매뉴에 </a:t>
            </a:r>
            <a:r>
              <a:rPr b="1" lang="en-US" sz="1500" spc="-1" strike="noStrike" u="sng">
                <a:solidFill>
                  <a:srgbClr val="0000ff"/>
                </a:solidFill>
                <a:uFillTx/>
                <a:latin typeface="Arial"/>
                <a:ea typeface="산돌고딕 L"/>
              </a:rPr>
              <a:t>‘</a:t>
            </a:r>
            <a:r>
              <a:rPr b="1" lang="en-US" sz="1500" spc="-1" strike="noStrike" u="sng">
                <a:solidFill>
                  <a:srgbClr val="0000ff"/>
                </a:solidFill>
                <a:uFillTx/>
                <a:latin typeface="산돌고딕 L"/>
                <a:ea typeface="산돌고딕 L"/>
              </a:rPr>
              <a:t>BIXOLON SPL-D420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’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가 설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   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설치되어있다면 설치 완료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9. BIXOLON SPL-D420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을 기본프린터로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   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설정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산돌고딕 L"/>
                <a:ea typeface="산돌고딕 L"/>
              </a:rPr>
              <a:t>※</a:t>
            </a:r>
            <a:r>
              <a:rPr b="1" lang="ko-KR" sz="1500" spc="-1" strike="noStrike">
                <a:solidFill>
                  <a:srgbClr val="ff0000"/>
                </a:solidFill>
                <a:latin typeface="산돌고딕 L"/>
                <a:ea typeface="산돌고딕 L"/>
              </a:rPr>
              <a:t>주의</a:t>
            </a:r>
            <a:r>
              <a:rPr b="1" lang="en-US" sz="1500" spc="-1" strike="noStrike">
                <a:solidFill>
                  <a:srgbClr val="ff0000"/>
                </a:solidFill>
                <a:latin typeface="산돌고딕 L"/>
                <a:ea typeface="산돌고딕 L"/>
              </a:rPr>
              <a:t>※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간혹 드라이버가</a:t>
            </a:r>
            <a:r>
              <a:rPr b="1" lang="en-US" sz="1500" spc="-1" strike="noStrike" u="sng">
                <a:solidFill>
                  <a:srgbClr val="ff0000"/>
                </a:solidFill>
                <a:uFillTx/>
                <a:latin typeface="산돌고딕 L"/>
                <a:ea typeface="산돌고딕 L"/>
              </a:rPr>
              <a:t>BIXOLON SLP-D420 EP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이라고 설치되는 경우가 있는데 이럴 경우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드라이버 삭제 후 재설치 하셔야 합니다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001"/>
          <p:cNvSpPr/>
          <p:nvPr/>
        </p:nvSpPr>
        <p:spPr>
          <a:xfrm>
            <a:off x="5656320" y="1666800"/>
            <a:ext cx="37940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7.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기표지프린터 전원 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5"/>
          <p:cNvGrpSpPr/>
          <p:nvPr/>
        </p:nvGrpSpPr>
        <p:grpSpPr>
          <a:xfrm>
            <a:off x="1087560" y="1411200"/>
            <a:ext cx="4779360" cy="4372200"/>
            <a:chOff x="1087560" y="1411200"/>
            <a:chExt cx="4779360" cy="4372200"/>
          </a:xfrm>
        </p:grpSpPr>
        <p:pic>
          <p:nvPicPr>
            <p:cNvPr id="224" name="Picture 13" descr="7"/>
            <p:cNvPicPr/>
            <p:nvPr/>
          </p:nvPicPr>
          <p:blipFill>
            <a:blip r:embed="rId1"/>
            <a:srcRect l="16928" t="7910" r="17513" b="11102"/>
            <a:stretch/>
          </p:blipFill>
          <p:spPr>
            <a:xfrm>
              <a:off x="1088640" y="1411200"/>
              <a:ext cx="4778280" cy="43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Rectangle 6"/>
            <p:cNvSpPr/>
            <p:nvPr/>
          </p:nvSpPr>
          <p:spPr>
            <a:xfrm>
              <a:off x="1087560" y="2878560"/>
              <a:ext cx="856440" cy="7801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14"/>
            <p:cNvSpPr/>
            <p:nvPr/>
          </p:nvSpPr>
          <p:spPr>
            <a:xfrm>
              <a:off x="1595520" y="3541320"/>
              <a:ext cx="210600" cy="65520"/>
            </a:xfrm>
            <a:prstGeom prst="rect">
              <a:avLst/>
            </a:prstGeom>
            <a:solidFill>
              <a:srgbClr val="b3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모서리가 둥근 직사각형 5"/>
          <p:cNvSpPr/>
          <p:nvPr/>
        </p:nvSpPr>
        <p:spPr>
          <a:xfrm>
            <a:off x="1708200" y="631800"/>
            <a:ext cx="4087800" cy="3888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marL="431640" indent="-43164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4.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드라이버 설치방법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(WIN7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001"/>
          <p:cNvSpPr/>
          <p:nvPr/>
        </p:nvSpPr>
        <p:spPr>
          <a:xfrm>
            <a:off x="5584680" y="3228840"/>
            <a:ext cx="40053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10.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인쇄기본설정에서 </a:t>
            </a:r>
            <a:r>
              <a:rPr b="1" lang="en-US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ABOUT</a:t>
            </a:r>
            <a:r>
              <a:rPr b="1" lang="ko-KR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탭 선택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후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     </a:t>
            </a:r>
            <a:r>
              <a:rPr b="1" lang="ko-KR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버전이 </a:t>
            </a:r>
            <a:r>
              <a:rPr b="1" lang="en-US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4.6.64</a:t>
            </a:r>
            <a:r>
              <a:rPr b="1" lang="ko-KR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인지 확인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12"/>
          <p:cNvGrpSpPr/>
          <p:nvPr/>
        </p:nvGrpSpPr>
        <p:grpSpPr>
          <a:xfrm>
            <a:off x="1370160" y="1411200"/>
            <a:ext cx="4003560" cy="4880160"/>
            <a:chOff x="1370160" y="1411200"/>
            <a:chExt cx="4003560" cy="4880160"/>
          </a:xfrm>
        </p:grpSpPr>
        <p:pic>
          <p:nvPicPr>
            <p:cNvPr id="230" name="Picture 10" descr="111"/>
            <p:cNvPicPr/>
            <p:nvPr/>
          </p:nvPicPr>
          <p:blipFill>
            <a:blip r:embed="rId1"/>
            <a:srcRect l="46461" t="21943" r="19884" b="22689"/>
            <a:stretch/>
          </p:blipFill>
          <p:spPr>
            <a:xfrm>
              <a:off x="1370160" y="1411200"/>
              <a:ext cx="4003560" cy="488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Rectangle 11"/>
            <p:cNvSpPr/>
            <p:nvPr/>
          </p:nvSpPr>
          <p:spPr>
            <a:xfrm>
              <a:off x="4530960" y="1736640"/>
              <a:ext cx="687600" cy="261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모서리가 둥근 직사각형 5"/>
          <p:cNvSpPr/>
          <p:nvPr/>
        </p:nvSpPr>
        <p:spPr>
          <a:xfrm>
            <a:off x="1708200" y="631800"/>
            <a:ext cx="4087800" cy="3888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marL="431640" indent="-43164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4.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드라이버 설치방법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(WIN7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모서리가 둥근 직사각형 5"/>
          <p:cNvSpPr/>
          <p:nvPr/>
        </p:nvSpPr>
        <p:spPr>
          <a:xfrm>
            <a:off x="1708200" y="631800"/>
            <a:ext cx="2471760" cy="3888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marL="431640" indent="-43164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3.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설치방법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(XP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모서리가 둥근 직사각형 5"/>
          <p:cNvSpPr/>
          <p:nvPr/>
        </p:nvSpPr>
        <p:spPr>
          <a:xfrm>
            <a:off x="1708200" y="631800"/>
            <a:ext cx="5765760" cy="3888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marL="431640" indent="-43164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5.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환경설정방법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(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인터넷우체국 계약택배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001"/>
          <p:cNvSpPr/>
          <p:nvPr/>
        </p:nvSpPr>
        <p:spPr>
          <a:xfrm>
            <a:off x="1298520" y="1087560"/>
            <a:ext cx="75898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buClr>
                <a:srgbClr val="000000"/>
              </a:buClr>
              <a:buFont typeface="산돌고딕 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사업자포털 계약택배에서 </a:t>
            </a:r>
            <a:r>
              <a:rPr b="1" lang="ko-KR" sz="1500" spc="-1" strike="noStrike">
                <a:solidFill>
                  <a:srgbClr val="ff0000"/>
                </a:solidFill>
                <a:latin typeface="산돌고딕 L"/>
                <a:ea typeface="산돌고딕 L"/>
              </a:rPr>
              <a:t>오즈뷰어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로 출력시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인쇄기본설정에서 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‘</a:t>
            </a:r>
            <a:r>
              <a:rPr b="1" lang="ko-KR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고급설치탭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’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에서 </a:t>
            </a:r>
            <a:r>
              <a:rPr b="1" lang="en-US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Y</a:t>
            </a:r>
            <a:r>
              <a:rPr b="1" lang="ko-KR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여백값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2MM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로 수정해야함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.  </a:t>
            </a:r>
            <a:r>
              <a:rPr b="1" lang="en-US" sz="1500" spc="-1" strike="noStrike" u="sng">
                <a:solidFill>
                  <a:srgbClr val="ff0000"/>
                </a:solidFill>
                <a:uFillTx/>
                <a:latin typeface="산돌고딕 L"/>
                <a:ea typeface="산돌고딕 L"/>
              </a:rPr>
              <a:t>(</a:t>
            </a:r>
            <a:r>
              <a:rPr b="1" lang="ko-KR" sz="1500" spc="-1" strike="noStrike" u="sng">
                <a:solidFill>
                  <a:srgbClr val="ff0000"/>
                </a:solidFill>
                <a:uFillTx/>
                <a:latin typeface="산돌고딕 L"/>
                <a:ea typeface="산돌고딕 L"/>
              </a:rPr>
              <a:t>설정안할 시 좌측으로 </a:t>
            </a:r>
            <a:r>
              <a:rPr b="1" lang="en-US" sz="1500" spc="-1" strike="noStrike" u="sng">
                <a:solidFill>
                  <a:srgbClr val="ff0000"/>
                </a:solidFill>
                <a:uFillTx/>
                <a:latin typeface="산돌고딕 L"/>
                <a:ea typeface="산돌고딕 L"/>
              </a:rPr>
              <a:t>2MM</a:t>
            </a:r>
            <a:r>
              <a:rPr b="1" lang="ko-KR" sz="1500" spc="-1" strike="noStrike" u="sng">
                <a:solidFill>
                  <a:srgbClr val="ff0000"/>
                </a:solidFill>
                <a:uFillTx/>
                <a:latin typeface="산돌고딕 L"/>
                <a:ea typeface="산돌고딕 L"/>
              </a:rPr>
              <a:t> </a:t>
            </a:r>
            <a:r>
              <a:rPr b="1" lang="ko-KR" sz="1500" spc="-1" strike="noStrike" u="sng">
                <a:solidFill>
                  <a:srgbClr val="ff0000"/>
                </a:solidFill>
                <a:uFillTx/>
                <a:latin typeface="산돌고딕 L"/>
                <a:ea typeface="산돌고딕 L"/>
              </a:rPr>
              <a:t>밀려서 출력됨</a:t>
            </a:r>
            <a:r>
              <a:rPr b="1" lang="en-US" sz="1500" spc="-1" strike="noStrike" u="sng">
                <a:solidFill>
                  <a:srgbClr val="ff0000"/>
                </a:solidFill>
                <a:uFillTx/>
                <a:latin typeface="산돌고딕 L"/>
                <a:ea typeface="산돌고딕 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23"/>
          <p:cNvGrpSpPr/>
          <p:nvPr/>
        </p:nvGrpSpPr>
        <p:grpSpPr>
          <a:xfrm>
            <a:off x="1533600" y="1803240"/>
            <a:ext cx="7354440" cy="4829400"/>
            <a:chOff x="1533600" y="1803240"/>
            <a:chExt cx="7354440" cy="4829400"/>
          </a:xfrm>
        </p:grpSpPr>
        <p:pic>
          <p:nvPicPr>
            <p:cNvPr id="237" name="Picture 19" descr="111"/>
            <p:cNvPicPr/>
            <p:nvPr/>
          </p:nvPicPr>
          <p:blipFill>
            <a:blip r:embed="rId1"/>
            <a:srcRect l="1305" t="0" r="0" b="11102"/>
            <a:stretch/>
          </p:blipFill>
          <p:spPr>
            <a:xfrm>
              <a:off x="1649520" y="1803240"/>
              <a:ext cx="7238520" cy="482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Rectangle 20"/>
            <p:cNvSpPr/>
            <p:nvPr/>
          </p:nvSpPr>
          <p:spPr>
            <a:xfrm>
              <a:off x="1533600" y="2453040"/>
              <a:ext cx="701640" cy="325440"/>
            </a:xfrm>
            <a:prstGeom prst="rect">
              <a:avLst/>
            </a:prstGeom>
            <a:noFill/>
            <a:ln w="2844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004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21"/>
            <p:cNvSpPr/>
            <p:nvPr/>
          </p:nvSpPr>
          <p:spPr>
            <a:xfrm>
              <a:off x="5251680" y="3280320"/>
              <a:ext cx="562320" cy="196200"/>
            </a:xfrm>
            <a:prstGeom prst="rect">
              <a:avLst/>
            </a:prstGeom>
            <a:noFill/>
            <a:ln w="2844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004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2"/>
            <p:cNvSpPr/>
            <p:nvPr/>
          </p:nvSpPr>
          <p:spPr>
            <a:xfrm>
              <a:off x="6156360" y="4096440"/>
              <a:ext cx="1054800" cy="196200"/>
            </a:xfrm>
            <a:prstGeom prst="rect">
              <a:avLst/>
            </a:prstGeom>
            <a:noFill/>
            <a:ln w="2844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004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모서리가 둥근 직사각형 5"/>
          <p:cNvSpPr/>
          <p:nvPr/>
        </p:nvSpPr>
        <p:spPr>
          <a:xfrm>
            <a:off x="1708200" y="631800"/>
            <a:ext cx="1909800" cy="3888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marL="431640" indent="-43164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※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확인사항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11" descr="사진 184"/>
          <p:cNvPicPr/>
          <p:nvPr/>
        </p:nvPicPr>
        <p:blipFill>
          <a:blip r:embed="rId1"/>
          <a:srcRect l="6644" t="10835" r="2539" b="11394"/>
          <a:stretch/>
        </p:blipFill>
        <p:spPr>
          <a:xfrm>
            <a:off x="2143080" y="1411200"/>
            <a:ext cx="6184800" cy="36766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001"/>
          <p:cNvSpPr/>
          <p:nvPr/>
        </p:nvSpPr>
        <p:spPr>
          <a:xfrm>
            <a:off x="1298520" y="5267160"/>
            <a:ext cx="8361360" cy="6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※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환경설정까지 완료 후 기표지 출력하여 상단과 같이 각 칸에 맞게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   </a:t>
            </a:r>
            <a:r>
              <a:rPr b="1" lang="ko-KR" sz="19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글씨가 출력되면 정상상태입니다</a:t>
            </a:r>
            <a:r>
              <a:rPr b="1" lang="en-US" sz="19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모서리가 둥근 직사각형 5"/>
          <p:cNvSpPr/>
          <p:nvPr/>
        </p:nvSpPr>
        <p:spPr>
          <a:xfrm>
            <a:off x="1708200" y="631800"/>
            <a:ext cx="4829040" cy="3888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marL="431640" indent="-43164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※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프린터상태표시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(LED DISPLAY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5" descr="프린터상태표시LED"/>
          <p:cNvPicPr/>
          <p:nvPr/>
        </p:nvPicPr>
        <p:blipFill>
          <a:blip r:embed="rId1"/>
          <a:srcRect l="0" t="0" r="1358" b="0"/>
          <a:stretch/>
        </p:blipFill>
        <p:spPr>
          <a:xfrm>
            <a:off x="1352520" y="1353960"/>
            <a:ext cx="775512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38080" y="650520"/>
            <a:ext cx="2504160" cy="351360"/>
          </a:xfrm>
          <a:prstGeom prst="rect">
            <a:avLst/>
          </a:prstGeom>
          <a:solidFill>
            <a:srgbClr val="00ccff"/>
          </a:solidFill>
          <a:ln w="19080">
            <a:solidFill>
              <a:srgbClr val="99cc00"/>
            </a:solidFill>
            <a:round/>
          </a:ln>
        </p:spPr>
        <p:txBody>
          <a:bodyPr lIns="86400" rIns="86400" tIns="43200" bIns="43200" anchor="ctr">
            <a:noAutofit/>
          </a:bodyPr>
          <a:p>
            <a:pPr marL="431640" indent="-43164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1. 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장비구성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528920" y="1495440"/>
            <a:ext cx="171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48"/>
          <p:cNvGrpSpPr/>
          <p:nvPr/>
        </p:nvGrpSpPr>
        <p:grpSpPr>
          <a:xfrm>
            <a:off x="1440000" y="1216080"/>
            <a:ext cx="4776480" cy="5465880"/>
            <a:chOff x="1440000" y="1216080"/>
            <a:chExt cx="4776480" cy="5465880"/>
          </a:xfrm>
        </p:grpSpPr>
        <p:pic>
          <p:nvPicPr>
            <p:cNvPr id="93" name="Picture 46" descr="D420제품구성"/>
            <p:cNvPicPr/>
            <p:nvPr/>
          </p:nvPicPr>
          <p:blipFill>
            <a:blip r:embed="rId1"/>
            <a:stretch/>
          </p:blipFill>
          <p:spPr>
            <a:xfrm>
              <a:off x="1440000" y="1216080"/>
              <a:ext cx="4776480" cy="546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47"/>
            <p:cNvSpPr/>
            <p:nvPr/>
          </p:nvSpPr>
          <p:spPr>
            <a:xfrm>
              <a:off x="1719720" y="5023080"/>
              <a:ext cx="3438360" cy="38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Text Box 49"/>
          <p:cNvSpPr/>
          <p:nvPr/>
        </p:nvSpPr>
        <p:spPr>
          <a:xfrm>
            <a:off x="6357960" y="2428920"/>
            <a:ext cx="3162240" cy="310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</a:t>
            </a:r>
            <a:r>
              <a:rPr b="0" lang="ko-KR" sz="23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본체</a:t>
            </a:r>
            <a:r>
              <a:rPr b="0" lang="en-US" sz="23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LP-D420) 1E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23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원코드 </a:t>
            </a:r>
            <a:r>
              <a:rPr b="0" lang="en-US" sz="23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E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AC </a:t>
            </a:r>
            <a:r>
              <a:rPr b="0" lang="ko-KR" sz="23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뎁터 </a:t>
            </a:r>
            <a:r>
              <a:rPr b="0" lang="en-US" sz="23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E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4. USB </a:t>
            </a:r>
            <a:r>
              <a:rPr b="0" lang="ko-KR" sz="23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케이블 </a:t>
            </a:r>
            <a:r>
              <a:rPr b="0" lang="en-US" sz="23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E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 </a:t>
            </a:r>
            <a:r>
              <a:rPr b="0" lang="ko-KR" sz="23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설치</a:t>
            </a:r>
            <a:r>
              <a:rPr b="0" lang="en-US" sz="23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C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6. </a:t>
            </a:r>
            <a:r>
              <a:rPr b="0" lang="ko-KR" sz="23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용자매뉴얼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737720" y="650520"/>
            <a:ext cx="2843640" cy="351360"/>
          </a:xfrm>
          <a:prstGeom prst="rect">
            <a:avLst/>
          </a:prstGeom>
          <a:solidFill>
            <a:srgbClr val="00ccff"/>
          </a:solidFill>
          <a:ln w="19080">
            <a:solidFill>
              <a:srgbClr val="99cc00"/>
            </a:solidFill>
            <a:round/>
          </a:ln>
        </p:spPr>
        <p:txBody>
          <a:bodyPr lIns="86400" rIns="86400" tIns="43200" bIns="43200" anchor="ctr">
            <a:noAutofit/>
          </a:bodyPr>
          <a:p>
            <a:pPr marL="431640" indent="-43164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2. 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설치전 준비작업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528920" y="1365120"/>
            <a:ext cx="171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8" descr="사진 170"/>
          <p:cNvPicPr/>
          <p:nvPr/>
        </p:nvPicPr>
        <p:blipFill>
          <a:blip r:embed="rId1"/>
          <a:stretch/>
        </p:blipFill>
        <p:spPr>
          <a:xfrm>
            <a:off x="1298520" y="1216080"/>
            <a:ext cx="2739960" cy="19033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01"/>
          <p:cNvSpPr/>
          <p:nvPr/>
        </p:nvSpPr>
        <p:spPr>
          <a:xfrm>
            <a:off x="1195560" y="3102120"/>
            <a:ext cx="302076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1.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소형기표지프린터 로컬 설치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(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전원 및 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usb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케이블 연결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4883040" y="2387520"/>
            <a:ext cx="4906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23"/>
          <p:cNvGrpSpPr/>
          <p:nvPr/>
        </p:nvGrpSpPr>
        <p:grpSpPr>
          <a:xfrm>
            <a:off x="6006960" y="1216080"/>
            <a:ext cx="2740320" cy="1903320"/>
            <a:chOff x="6006960" y="1216080"/>
            <a:chExt cx="2740320" cy="1903320"/>
          </a:xfrm>
        </p:grpSpPr>
        <p:pic>
          <p:nvPicPr>
            <p:cNvPr id="102" name="Picture 11" descr="사진 173"/>
            <p:cNvPicPr/>
            <p:nvPr/>
          </p:nvPicPr>
          <p:blipFill>
            <a:blip r:embed="rId2"/>
            <a:stretch/>
          </p:blipFill>
          <p:spPr>
            <a:xfrm>
              <a:off x="6006960" y="1216080"/>
              <a:ext cx="2740320" cy="19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Line 12"/>
            <p:cNvSpPr/>
            <p:nvPr/>
          </p:nvSpPr>
          <p:spPr>
            <a:xfrm flipH="1">
              <a:off x="7007400" y="2231640"/>
              <a:ext cx="351360" cy="128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Text Box 1001"/>
          <p:cNvSpPr/>
          <p:nvPr/>
        </p:nvSpPr>
        <p:spPr>
          <a:xfrm>
            <a:off x="5726160" y="3102120"/>
            <a:ext cx="33037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2.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옆 레버를 화살표 방향으로 밀면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  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상단커버 열림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7413480" y="3494160"/>
            <a:ext cx="0" cy="390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01"/>
          <p:cNvSpPr/>
          <p:nvPr/>
        </p:nvSpPr>
        <p:spPr>
          <a:xfrm>
            <a:off x="5726160" y="5837400"/>
            <a:ext cx="3303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3.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흰부분을 양쪽으로 민다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24"/>
          <p:cNvGrpSpPr/>
          <p:nvPr/>
        </p:nvGrpSpPr>
        <p:grpSpPr>
          <a:xfrm>
            <a:off x="6035760" y="3949560"/>
            <a:ext cx="2711520" cy="1882800"/>
            <a:chOff x="6035760" y="3949560"/>
            <a:chExt cx="2711520" cy="1882800"/>
          </a:xfrm>
        </p:grpSpPr>
        <p:pic>
          <p:nvPicPr>
            <p:cNvPr id="108" name="Picture 15" descr="사진 172"/>
            <p:cNvPicPr/>
            <p:nvPr/>
          </p:nvPicPr>
          <p:blipFill>
            <a:blip r:embed="rId3"/>
            <a:stretch/>
          </p:blipFill>
          <p:spPr>
            <a:xfrm>
              <a:off x="6035760" y="3949560"/>
              <a:ext cx="2711520" cy="18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Line 17"/>
            <p:cNvSpPr/>
            <p:nvPr/>
          </p:nvSpPr>
          <p:spPr>
            <a:xfrm>
              <a:off x="7552440" y="5121000"/>
              <a:ext cx="351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8"/>
            <p:cNvSpPr/>
            <p:nvPr/>
          </p:nvSpPr>
          <p:spPr>
            <a:xfrm flipH="1">
              <a:off x="6828480" y="5121000"/>
              <a:ext cx="351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Line 19"/>
          <p:cNvSpPr/>
          <p:nvPr/>
        </p:nvSpPr>
        <p:spPr>
          <a:xfrm flipH="1">
            <a:off x="4882680" y="4991040"/>
            <a:ext cx="4906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01"/>
          <p:cNvSpPr/>
          <p:nvPr/>
        </p:nvSpPr>
        <p:spPr>
          <a:xfrm>
            <a:off x="876240" y="5837400"/>
            <a:ext cx="42181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4.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뒤쪽 롤페이지 고정부 옆 흰레버를 위로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 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올린 다음 양끝으로 밀고 레버를 내린다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298520" y="3951360"/>
            <a:ext cx="2749680" cy="1909800"/>
            <a:chOff x="1298520" y="3951360"/>
            <a:chExt cx="2749680" cy="1909800"/>
          </a:xfrm>
        </p:grpSpPr>
        <p:pic>
          <p:nvPicPr>
            <p:cNvPr id="114" name="Picture 20" descr="사진 174"/>
            <p:cNvPicPr/>
            <p:nvPr/>
          </p:nvPicPr>
          <p:blipFill>
            <a:blip r:embed="rId4"/>
            <a:stretch/>
          </p:blipFill>
          <p:spPr>
            <a:xfrm>
              <a:off x="1298520" y="3951360"/>
              <a:ext cx="2749680" cy="19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Line 22"/>
            <p:cNvSpPr/>
            <p:nvPr/>
          </p:nvSpPr>
          <p:spPr>
            <a:xfrm flipV="1">
              <a:off x="2844360" y="4729680"/>
              <a:ext cx="0" cy="324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737720" y="650520"/>
            <a:ext cx="2843640" cy="351360"/>
          </a:xfrm>
          <a:prstGeom prst="rect">
            <a:avLst/>
          </a:prstGeom>
          <a:solidFill>
            <a:srgbClr val="00ccff"/>
          </a:solidFill>
          <a:ln w="19080">
            <a:solidFill>
              <a:srgbClr val="99cc00"/>
            </a:solidFill>
            <a:round/>
          </a:ln>
        </p:spPr>
        <p:txBody>
          <a:bodyPr lIns="86400" rIns="86400" tIns="43200" bIns="43200" anchor="ctr">
            <a:noAutofit/>
          </a:bodyPr>
          <a:p>
            <a:pPr marL="431640" indent="-43164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2. 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설치전 준비작업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01"/>
          <p:cNvSpPr/>
          <p:nvPr/>
        </p:nvSpPr>
        <p:spPr>
          <a:xfrm>
            <a:off x="1195560" y="3102120"/>
            <a:ext cx="3020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5.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그림과같이 용지를 넣는다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4883040" y="2714760"/>
            <a:ext cx="4906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01"/>
          <p:cNvSpPr/>
          <p:nvPr/>
        </p:nvSpPr>
        <p:spPr>
          <a:xfrm>
            <a:off x="5726160" y="3102120"/>
            <a:ext cx="365436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6.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앞쪽 용지 가이드 및 뒤쪽 롤페이퍼 고정부를 용지에 맞게 조정함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"/>
          <p:cNvSpPr/>
          <p:nvPr/>
        </p:nvSpPr>
        <p:spPr>
          <a:xfrm>
            <a:off x="7413480" y="3624120"/>
            <a:ext cx="0" cy="390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01"/>
          <p:cNvSpPr/>
          <p:nvPr/>
        </p:nvSpPr>
        <p:spPr>
          <a:xfrm>
            <a:off x="5726160" y="5967360"/>
            <a:ext cx="3303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7.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상단커버 닫음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01"/>
          <p:cNvSpPr/>
          <p:nvPr/>
        </p:nvSpPr>
        <p:spPr>
          <a:xfrm>
            <a:off x="1298520" y="5303880"/>
            <a:ext cx="28116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※ </a:t>
            </a:r>
            <a:r>
              <a:rPr b="1" lang="ko-KR" sz="13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우체국표시가 좌측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ko-KR" sz="13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    </a:t>
            </a:r>
            <a:r>
              <a:rPr b="1" lang="ko-KR" sz="13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앞쪽으로 오도록 배치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34"/>
          <p:cNvGrpSpPr/>
          <p:nvPr/>
        </p:nvGrpSpPr>
        <p:grpSpPr>
          <a:xfrm>
            <a:off x="6006960" y="1216080"/>
            <a:ext cx="2740320" cy="1903320"/>
            <a:chOff x="6006960" y="1216080"/>
            <a:chExt cx="2740320" cy="1903320"/>
          </a:xfrm>
        </p:grpSpPr>
        <p:sp>
          <p:nvSpPr>
            <p:cNvPr id="124" name="Line 8"/>
            <p:cNvSpPr/>
            <p:nvPr/>
          </p:nvSpPr>
          <p:spPr>
            <a:xfrm flipH="1">
              <a:off x="7007400" y="2231640"/>
              <a:ext cx="351360" cy="128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Picture 20" descr="사진 188"/>
            <p:cNvPicPr/>
            <p:nvPr/>
          </p:nvPicPr>
          <p:blipFill>
            <a:blip r:embed="rId1"/>
            <a:stretch/>
          </p:blipFill>
          <p:spPr>
            <a:xfrm>
              <a:off x="6006960" y="1216080"/>
              <a:ext cx="2740320" cy="19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Line 25"/>
            <p:cNvSpPr/>
            <p:nvPr/>
          </p:nvSpPr>
          <p:spPr>
            <a:xfrm>
              <a:off x="6217560" y="2516760"/>
              <a:ext cx="3513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 flipH="1">
              <a:off x="7904520" y="2516760"/>
              <a:ext cx="3513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 flipH="1">
              <a:off x="8184960" y="1606320"/>
              <a:ext cx="3513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28"/>
            <p:cNvSpPr/>
            <p:nvPr/>
          </p:nvSpPr>
          <p:spPr>
            <a:xfrm>
              <a:off x="6006960" y="1606320"/>
              <a:ext cx="351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" name="Picture 29" descr="사진 183"/>
          <p:cNvPicPr/>
          <p:nvPr/>
        </p:nvPicPr>
        <p:blipFill>
          <a:blip r:embed="rId2"/>
          <a:stretch/>
        </p:blipFill>
        <p:spPr>
          <a:xfrm>
            <a:off x="6006960" y="4064040"/>
            <a:ext cx="2740320" cy="190332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33"/>
          <p:cNvGrpSpPr/>
          <p:nvPr/>
        </p:nvGrpSpPr>
        <p:grpSpPr>
          <a:xfrm>
            <a:off x="1298520" y="1216080"/>
            <a:ext cx="2811600" cy="3970080"/>
            <a:chOff x="1298520" y="1216080"/>
            <a:chExt cx="2811600" cy="3970080"/>
          </a:xfrm>
        </p:grpSpPr>
        <p:sp>
          <p:nvSpPr>
            <p:cNvPr id="132" name="Text Box 3"/>
            <p:cNvSpPr/>
            <p:nvPr/>
          </p:nvSpPr>
          <p:spPr>
            <a:xfrm>
              <a:off x="1529280" y="1365120"/>
              <a:ext cx="17028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" name="Picture 19" descr="사진 179"/>
            <p:cNvPicPr/>
            <p:nvPr/>
          </p:nvPicPr>
          <p:blipFill>
            <a:blip r:embed="rId3"/>
            <a:stretch/>
          </p:blipFill>
          <p:spPr>
            <a:xfrm>
              <a:off x="1298520" y="1216080"/>
              <a:ext cx="2739960" cy="19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21" descr="사진 179"/>
            <p:cNvPicPr/>
            <p:nvPr/>
          </p:nvPicPr>
          <p:blipFill>
            <a:blip r:embed="rId4"/>
            <a:srcRect l="39975" t="70134" r="50493" b="18606"/>
            <a:stretch/>
          </p:blipFill>
          <p:spPr>
            <a:xfrm>
              <a:off x="1856160" y="4315680"/>
              <a:ext cx="1060920" cy="870480"/>
            </a:xfrm>
            <a:prstGeom prst="rect">
              <a:avLst/>
            </a:prstGeom>
            <a:ln w="28440">
              <a:solidFill>
                <a:srgbClr val="008000"/>
              </a:solidFill>
              <a:prstDash val="lgDash"/>
              <a:miter/>
            </a:ln>
          </p:spPr>
        </p:pic>
        <p:sp>
          <p:nvSpPr>
            <p:cNvPr id="135" name="Oval 22"/>
            <p:cNvSpPr/>
            <p:nvPr/>
          </p:nvSpPr>
          <p:spPr>
            <a:xfrm>
              <a:off x="2282400" y="2452680"/>
              <a:ext cx="422280" cy="3898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3"/>
            <p:cNvSpPr/>
            <p:nvPr/>
          </p:nvSpPr>
          <p:spPr>
            <a:xfrm flipH="1">
              <a:off x="3054960" y="4794840"/>
              <a:ext cx="10548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lgDash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31"/>
            <p:cNvSpPr/>
            <p:nvPr/>
          </p:nvSpPr>
          <p:spPr>
            <a:xfrm flipV="1">
              <a:off x="4110120" y="2647440"/>
              <a:ext cx="0" cy="2147040"/>
            </a:xfrm>
            <a:prstGeom prst="line">
              <a:avLst/>
            </a:prstGeom>
            <a:ln w="2844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32"/>
            <p:cNvSpPr/>
            <p:nvPr/>
          </p:nvSpPr>
          <p:spPr>
            <a:xfrm>
              <a:off x="2704680" y="2647440"/>
              <a:ext cx="140508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52"/>
          <p:cNvSpPr/>
          <p:nvPr/>
        </p:nvSpPr>
        <p:spPr>
          <a:xfrm>
            <a:off x="1509840" y="1477800"/>
            <a:ext cx="7940520" cy="4685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001"/>
          <p:cNvSpPr/>
          <p:nvPr/>
        </p:nvSpPr>
        <p:spPr>
          <a:xfrm>
            <a:off x="1509840" y="1477800"/>
            <a:ext cx="7940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1.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프린터 로컬 연결 완료 후 전원 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OF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2.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프린터 설치 프로그램 실행 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(SLP-D420 V4.6.64_POST2011.EX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8" descr="1"/>
          <p:cNvPicPr/>
          <p:nvPr/>
        </p:nvPicPr>
        <p:blipFill>
          <a:blip r:embed="rId1"/>
          <a:srcRect l="0" t="1893" r="0" b="2960"/>
          <a:stretch/>
        </p:blipFill>
        <p:spPr>
          <a:xfrm>
            <a:off x="1857240" y="2205000"/>
            <a:ext cx="5129280" cy="3614760"/>
          </a:xfrm>
          <a:prstGeom prst="rect">
            <a:avLst/>
          </a:prstGeom>
          <a:ln w="0">
            <a:noFill/>
          </a:ln>
        </p:spPr>
      </p:pic>
      <p:sp>
        <p:nvSpPr>
          <p:cNvPr id="142" name="모서리가 둥근 직사각형 5"/>
          <p:cNvSpPr/>
          <p:nvPr/>
        </p:nvSpPr>
        <p:spPr>
          <a:xfrm>
            <a:off x="1708200" y="631800"/>
            <a:ext cx="3876480" cy="3888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marL="431640" indent="-43164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3.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드라이버 설치방법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(XP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모서리가 둥근 직사각형 5"/>
          <p:cNvSpPr/>
          <p:nvPr/>
        </p:nvSpPr>
        <p:spPr>
          <a:xfrm>
            <a:off x="1708200" y="631800"/>
            <a:ext cx="2471760" cy="3888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marL="431640" indent="-43164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3.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설치방법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(XP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1228680" y="1411200"/>
            <a:ext cx="4145040" cy="2373120"/>
            <a:chOff x="1228680" y="1411200"/>
            <a:chExt cx="4145040" cy="2373120"/>
          </a:xfrm>
        </p:grpSpPr>
        <p:pic>
          <p:nvPicPr>
            <p:cNvPr id="145" name="Picture 5" descr="2"/>
            <p:cNvPicPr/>
            <p:nvPr/>
          </p:nvPicPr>
          <p:blipFill>
            <a:blip r:embed="rId1"/>
            <a:srcRect l="18611" t="25693" r="17985" b="25796"/>
            <a:stretch/>
          </p:blipFill>
          <p:spPr>
            <a:xfrm>
              <a:off x="1228680" y="1411200"/>
              <a:ext cx="4145040" cy="23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6"/>
            <p:cNvSpPr/>
            <p:nvPr/>
          </p:nvSpPr>
          <p:spPr>
            <a:xfrm>
              <a:off x="3336840" y="3524760"/>
              <a:ext cx="701280" cy="2595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Text Box 1001"/>
          <p:cNvSpPr/>
          <p:nvPr/>
        </p:nvSpPr>
        <p:spPr>
          <a:xfrm>
            <a:off x="5656320" y="2452680"/>
            <a:ext cx="40053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3. InstallShield Wizard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나오면 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‘</a:t>
            </a:r>
            <a:r>
              <a:rPr b="1" lang="ko-KR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다음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’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클릭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01"/>
          <p:cNvSpPr/>
          <p:nvPr/>
        </p:nvSpPr>
        <p:spPr>
          <a:xfrm>
            <a:off x="5656320" y="4881600"/>
            <a:ext cx="3935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4. Port Type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선택화면 나오면 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‘</a:t>
            </a:r>
            <a:r>
              <a:rPr b="1" lang="en-US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USB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’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선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 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후 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‘</a:t>
            </a:r>
            <a:r>
              <a:rPr b="1" lang="en-US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Next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’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클릭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16"/>
          <p:cNvGrpSpPr/>
          <p:nvPr/>
        </p:nvGrpSpPr>
        <p:grpSpPr>
          <a:xfrm>
            <a:off x="1158840" y="3949560"/>
            <a:ext cx="4214880" cy="2341800"/>
            <a:chOff x="1158840" y="3949560"/>
            <a:chExt cx="4214880" cy="2341800"/>
          </a:xfrm>
        </p:grpSpPr>
        <p:pic>
          <p:nvPicPr>
            <p:cNvPr id="150" name="Picture 9" descr="3"/>
            <p:cNvPicPr/>
            <p:nvPr/>
          </p:nvPicPr>
          <p:blipFill>
            <a:blip r:embed="rId2"/>
            <a:srcRect l="32879" t="35223" r="31695" b="38202"/>
            <a:stretch/>
          </p:blipFill>
          <p:spPr>
            <a:xfrm>
              <a:off x="1158840" y="3949560"/>
              <a:ext cx="4214880" cy="23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11"/>
            <p:cNvSpPr/>
            <p:nvPr/>
          </p:nvSpPr>
          <p:spPr>
            <a:xfrm>
              <a:off x="1861920" y="5469480"/>
              <a:ext cx="701640" cy="259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3569040" y="5412240"/>
              <a:ext cx="912240" cy="389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13"/>
            <p:cNvSpPr/>
            <p:nvPr/>
          </p:nvSpPr>
          <p:spPr>
            <a:xfrm>
              <a:off x="2633760" y="5425200"/>
              <a:ext cx="492480" cy="437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ko-KR" sz="23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①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4179240" y="4990320"/>
              <a:ext cx="421200" cy="437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ko-KR" sz="23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②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모서리가 둥근 직사각형 5"/>
          <p:cNvSpPr/>
          <p:nvPr/>
        </p:nvSpPr>
        <p:spPr>
          <a:xfrm>
            <a:off x="1708200" y="631800"/>
            <a:ext cx="3876480" cy="3888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marL="431640" indent="-43164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3.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드라이버 설치방법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(XP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모서리가 둥근 직사각형 5"/>
          <p:cNvSpPr/>
          <p:nvPr/>
        </p:nvSpPr>
        <p:spPr>
          <a:xfrm>
            <a:off x="1708200" y="631800"/>
            <a:ext cx="2471760" cy="3888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marL="431640" indent="-43164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3.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설치방법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(XP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01"/>
          <p:cNvSpPr/>
          <p:nvPr/>
        </p:nvSpPr>
        <p:spPr>
          <a:xfrm>
            <a:off x="5656320" y="2452680"/>
            <a:ext cx="37940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5.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옆 그림과 같이 나오면 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‘</a:t>
            </a:r>
            <a:r>
              <a:rPr b="1" lang="ko-KR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계속</a:t>
            </a:r>
            <a:r>
              <a:rPr b="1" lang="en-US" sz="1500" spc="-1" strike="noStrike" u="sng">
                <a:solidFill>
                  <a:srgbClr val="0000ff"/>
                </a:solidFill>
                <a:uFillTx/>
                <a:latin typeface="Arial"/>
                <a:ea typeface="산돌고딕 L"/>
              </a:rPr>
              <a:t>’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클릭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01"/>
          <p:cNvSpPr/>
          <p:nvPr/>
        </p:nvSpPr>
        <p:spPr>
          <a:xfrm>
            <a:off x="5586480" y="4881600"/>
            <a:ext cx="40053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6.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완료되었다는 메시지 나오면 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‘</a:t>
            </a:r>
            <a:r>
              <a:rPr b="1" lang="ko-KR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확인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’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클릭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18"/>
          <p:cNvGrpSpPr/>
          <p:nvPr/>
        </p:nvGrpSpPr>
        <p:grpSpPr>
          <a:xfrm>
            <a:off x="1241280" y="1197000"/>
            <a:ext cx="4273560" cy="2557440"/>
            <a:chOff x="1241280" y="1197000"/>
            <a:chExt cx="4273560" cy="2557440"/>
          </a:xfrm>
        </p:grpSpPr>
        <p:pic>
          <p:nvPicPr>
            <p:cNvPr id="160" name="Picture 12" descr="4"/>
            <p:cNvPicPr/>
            <p:nvPr/>
          </p:nvPicPr>
          <p:blipFill>
            <a:blip r:embed="rId1"/>
            <a:srcRect l="31107" t="33009" r="30511" b="35987"/>
            <a:stretch/>
          </p:blipFill>
          <p:spPr>
            <a:xfrm>
              <a:off x="1241280" y="1197000"/>
              <a:ext cx="4273560" cy="25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Rectangle 13"/>
            <p:cNvSpPr/>
            <p:nvPr/>
          </p:nvSpPr>
          <p:spPr>
            <a:xfrm>
              <a:off x="2961720" y="3353040"/>
              <a:ext cx="1192680" cy="2595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19"/>
          <p:cNvGrpSpPr/>
          <p:nvPr/>
        </p:nvGrpSpPr>
        <p:grpSpPr>
          <a:xfrm>
            <a:off x="1300320" y="4079880"/>
            <a:ext cx="4073400" cy="2016000"/>
            <a:chOff x="1300320" y="4079880"/>
            <a:chExt cx="4073400" cy="2016000"/>
          </a:xfrm>
        </p:grpSpPr>
        <p:pic>
          <p:nvPicPr>
            <p:cNvPr id="163" name="Picture 15" descr="5"/>
            <p:cNvPicPr/>
            <p:nvPr/>
          </p:nvPicPr>
          <p:blipFill>
            <a:blip r:embed="rId2"/>
            <a:srcRect l="32879" t="35972" r="32879" b="41147"/>
            <a:stretch/>
          </p:blipFill>
          <p:spPr>
            <a:xfrm>
              <a:off x="1300320" y="4079880"/>
              <a:ext cx="407340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Rectangle 17"/>
            <p:cNvSpPr/>
            <p:nvPr/>
          </p:nvSpPr>
          <p:spPr>
            <a:xfrm>
              <a:off x="3885480" y="5472000"/>
              <a:ext cx="1025280" cy="33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모서리가 둥근 직사각형 5"/>
          <p:cNvSpPr/>
          <p:nvPr/>
        </p:nvSpPr>
        <p:spPr>
          <a:xfrm>
            <a:off x="1708200" y="631800"/>
            <a:ext cx="3876480" cy="3888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marL="431640" indent="-43164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3.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드라이버 설치방법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(XP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모서리가 둥근 직사각형 5"/>
          <p:cNvSpPr/>
          <p:nvPr/>
        </p:nvSpPr>
        <p:spPr>
          <a:xfrm>
            <a:off x="1708200" y="631800"/>
            <a:ext cx="2471760" cy="3888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marL="431640" indent="-43164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3.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설치방법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(XP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001"/>
          <p:cNvSpPr/>
          <p:nvPr/>
        </p:nvSpPr>
        <p:spPr>
          <a:xfrm>
            <a:off x="5656320" y="2452680"/>
            <a:ext cx="37940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8.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새 하드웨어 검색마법사 실행되면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‘</a:t>
            </a:r>
            <a:r>
              <a:rPr b="1" lang="ko-KR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소프트웨어 자동으로 실행 설치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’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선택 후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‘</a:t>
            </a:r>
            <a:r>
              <a:rPr b="1" lang="ko-KR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다음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’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클릭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001"/>
          <p:cNvSpPr/>
          <p:nvPr/>
        </p:nvSpPr>
        <p:spPr>
          <a:xfrm>
            <a:off x="5586480" y="4881600"/>
            <a:ext cx="400536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9.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드라이버 선택하면 나오면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 u="sng">
                <a:solidFill>
                  <a:srgbClr val="ff0000"/>
                </a:solidFill>
                <a:uFillTx/>
                <a:latin typeface="Arial"/>
                <a:ea typeface="산돌고딕 L"/>
              </a:rPr>
              <a:t>‘</a:t>
            </a:r>
            <a:r>
              <a:rPr b="1" lang="ko-KR" sz="1500" spc="-1" strike="noStrike" u="sng">
                <a:solidFill>
                  <a:srgbClr val="ff0000"/>
                </a:solidFill>
                <a:uFillTx/>
                <a:latin typeface="산돌고딕 L"/>
                <a:ea typeface="산돌고딕 L"/>
              </a:rPr>
              <a:t>버전이 </a:t>
            </a:r>
            <a:r>
              <a:rPr b="1" lang="en-US" sz="1500" spc="-1" strike="noStrike" u="sng">
                <a:solidFill>
                  <a:srgbClr val="ff0000"/>
                </a:solidFill>
                <a:uFillTx/>
                <a:latin typeface="산돌고딕 L"/>
                <a:ea typeface="산돌고딕 L"/>
              </a:rPr>
              <a:t>4.6.64 3293</a:t>
            </a:r>
            <a:r>
              <a:rPr b="1" lang="en-US" sz="1500" spc="-1" strike="noStrike" u="sng">
                <a:solidFill>
                  <a:srgbClr val="ff0000"/>
                </a:solidFill>
                <a:uFillTx/>
                <a:latin typeface="Arial"/>
                <a:ea typeface="산돌고딕 L"/>
              </a:rPr>
              <a:t>’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선택 후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‘</a:t>
            </a:r>
            <a:r>
              <a:rPr b="1" lang="ko-KR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다음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’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클릭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(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경우에 따라 메시지 안 나올 수 있습니다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.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001"/>
          <p:cNvSpPr/>
          <p:nvPr/>
        </p:nvSpPr>
        <p:spPr>
          <a:xfrm>
            <a:off x="5656320" y="1666800"/>
            <a:ext cx="37940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7. </a:t>
            </a:r>
            <a:r>
              <a:rPr b="1" lang="ko-KR" sz="17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기표지프린터 전원 </a:t>
            </a:r>
            <a:r>
              <a:rPr b="1" lang="en-US" sz="17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11"/>
          <p:cNvGrpSpPr/>
          <p:nvPr/>
        </p:nvGrpSpPr>
        <p:grpSpPr>
          <a:xfrm>
            <a:off x="1298520" y="1179360"/>
            <a:ext cx="4356000" cy="2705400"/>
            <a:chOff x="1298520" y="1179360"/>
            <a:chExt cx="4356000" cy="2705400"/>
          </a:xfrm>
        </p:grpSpPr>
        <p:pic>
          <p:nvPicPr>
            <p:cNvPr id="171" name="Picture 2" descr="5"/>
            <p:cNvPicPr/>
            <p:nvPr/>
          </p:nvPicPr>
          <p:blipFill>
            <a:blip r:embed="rId1"/>
            <a:srcRect l="9844" t="16034" r="43505" b="44842"/>
            <a:stretch/>
          </p:blipFill>
          <p:spPr>
            <a:xfrm>
              <a:off x="1298520" y="1179360"/>
              <a:ext cx="4356000" cy="270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Rectangle 6"/>
            <p:cNvSpPr/>
            <p:nvPr/>
          </p:nvSpPr>
          <p:spPr>
            <a:xfrm>
              <a:off x="4026600" y="3558960"/>
              <a:ext cx="856440" cy="260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8"/>
            <p:cNvSpPr/>
            <p:nvPr/>
          </p:nvSpPr>
          <p:spPr>
            <a:xfrm>
              <a:off x="2915640" y="2804400"/>
              <a:ext cx="1685160" cy="2595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모서리가 둥근 직사각형 5"/>
          <p:cNvSpPr/>
          <p:nvPr/>
        </p:nvSpPr>
        <p:spPr>
          <a:xfrm>
            <a:off x="1708200" y="631800"/>
            <a:ext cx="3876480" cy="3888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marL="431640" indent="-43164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3.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드라이버 설치방법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(XP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15"/>
          <p:cNvGrpSpPr/>
          <p:nvPr/>
        </p:nvGrpSpPr>
        <p:grpSpPr>
          <a:xfrm>
            <a:off x="1195560" y="3933720"/>
            <a:ext cx="4425840" cy="2890800"/>
            <a:chOff x="1195560" y="3933720"/>
            <a:chExt cx="4425840" cy="2890800"/>
          </a:xfrm>
        </p:grpSpPr>
        <p:pic>
          <p:nvPicPr>
            <p:cNvPr id="176" name="Picture 14" descr="6"/>
            <p:cNvPicPr/>
            <p:nvPr/>
          </p:nvPicPr>
          <p:blipFill>
            <a:blip r:embed="rId2"/>
            <a:stretch/>
          </p:blipFill>
          <p:spPr>
            <a:xfrm>
              <a:off x="1195560" y="3933720"/>
              <a:ext cx="4425840" cy="28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Rectangle 10"/>
            <p:cNvSpPr/>
            <p:nvPr/>
          </p:nvSpPr>
          <p:spPr>
            <a:xfrm>
              <a:off x="1576800" y="5373360"/>
              <a:ext cx="3722400" cy="258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모서리가 둥근 직사각형 5"/>
          <p:cNvSpPr/>
          <p:nvPr/>
        </p:nvSpPr>
        <p:spPr>
          <a:xfrm>
            <a:off x="1708200" y="631800"/>
            <a:ext cx="2471760" cy="3888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marL="431640" indent="-43164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3.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설치방법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(XP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01"/>
          <p:cNvSpPr/>
          <p:nvPr/>
        </p:nvSpPr>
        <p:spPr>
          <a:xfrm>
            <a:off x="5656320" y="2475000"/>
            <a:ext cx="37940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10.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옆과 같은 메시지 나오면 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‘</a:t>
            </a:r>
            <a:r>
              <a:rPr b="1" lang="ko-KR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계속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’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클릭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001"/>
          <p:cNvSpPr/>
          <p:nvPr/>
        </p:nvSpPr>
        <p:spPr>
          <a:xfrm>
            <a:off x="5586480" y="4600440"/>
            <a:ext cx="400536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11.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새하드웨어 검색 마법사 완료 메시지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    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나오면 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산돌고딕 L"/>
              </a:rPr>
              <a:t>‘</a:t>
            </a:r>
            <a:r>
              <a:rPr b="1" lang="ko-KR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마침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산돌고딕 L"/>
              </a:rPr>
              <a:t>’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클릭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17"/>
          <p:cNvGrpSpPr/>
          <p:nvPr/>
        </p:nvGrpSpPr>
        <p:grpSpPr>
          <a:xfrm>
            <a:off x="1298520" y="1216080"/>
            <a:ext cx="4286160" cy="2538360"/>
            <a:chOff x="1298520" y="1216080"/>
            <a:chExt cx="4286160" cy="2538360"/>
          </a:xfrm>
        </p:grpSpPr>
        <p:pic>
          <p:nvPicPr>
            <p:cNvPr id="182" name="Picture 13" descr="7"/>
            <p:cNvPicPr/>
            <p:nvPr/>
          </p:nvPicPr>
          <p:blipFill>
            <a:blip r:embed="rId1"/>
            <a:srcRect l="31695" t="33758" r="32279" b="37452"/>
            <a:stretch/>
          </p:blipFill>
          <p:spPr>
            <a:xfrm>
              <a:off x="1298520" y="1216080"/>
              <a:ext cx="4286160" cy="25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6"/>
            <p:cNvSpPr/>
            <p:nvPr/>
          </p:nvSpPr>
          <p:spPr>
            <a:xfrm>
              <a:off x="3084480" y="3454560"/>
              <a:ext cx="1263600" cy="260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18"/>
          <p:cNvGrpSpPr/>
          <p:nvPr/>
        </p:nvGrpSpPr>
        <p:grpSpPr>
          <a:xfrm>
            <a:off x="1228680" y="3873600"/>
            <a:ext cx="4370400" cy="2612880"/>
            <a:chOff x="1228680" y="3873600"/>
            <a:chExt cx="4370400" cy="2612880"/>
          </a:xfrm>
        </p:grpSpPr>
        <p:pic>
          <p:nvPicPr>
            <p:cNvPr id="185" name="Picture 14" descr="8"/>
            <p:cNvPicPr/>
            <p:nvPr/>
          </p:nvPicPr>
          <p:blipFill>
            <a:blip r:embed="rId2"/>
            <a:srcRect l="9844" t="16764" r="43505" b="45576"/>
            <a:stretch/>
          </p:blipFill>
          <p:spPr>
            <a:xfrm>
              <a:off x="1228680" y="3873600"/>
              <a:ext cx="4370400" cy="26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5"/>
            <p:cNvSpPr/>
            <p:nvPr/>
          </p:nvSpPr>
          <p:spPr>
            <a:xfrm>
              <a:off x="3953520" y="6213960"/>
              <a:ext cx="971280" cy="246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Text Box 1001"/>
          <p:cNvSpPr/>
          <p:nvPr/>
        </p:nvSpPr>
        <p:spPr>
          <a:xfrm>
            <a:off x="5584680" y="5380200"/>
            <a:ext cx="400536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12.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산돌고딕 L"/>
              </a:rPr>
              <a:t>‘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프린터 및 팩스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산돌고딕 L"/>
              </a:rPr>
              <a:t>’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매뉴에서 </a:t>
            </a:r>
            <a:r>
              <a:rPr b="1" lang="en-US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SLP-D420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을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    </a:t>
            </a:r>
            <a:r>
              <a:rPr b="1" lang="ko-KR" sz="1500" spc="-1" strike="noStrike">
                <a:solidFill>
                  <a:srgbClr val="0000ff"/>
                </a:solidFill>
                <a:latin typeface="산돌고딕 L"/>
                <a:ea typeface="산돌고딕 L"/>
              </a:rPr>
              <a:t>기본프린터</a:t>
            </a:r>
            <a:r>
              <a:rPr b="1" lang="ko-KR" sz="1500" spc="-1" strike="noStrike">
                <a:solidFill>
                  <a:srgbClr val="000000"/>
                </a:solidFill>
                <a:latin typeface="산돌고딕 L"/>
                <a:ea typeface="산돌고딕 L"/>
              </a:rPr>
              <a:t> 로 설정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모서리가 둥근 직사각형 5"/>
          <p:cNvSpPr/>
          <p:nvPr/>
        </p:nvSpPr>
        <p:spPr>
          <a:xfrm>
            <a:off x="1708200" y="631800"/>
            <a:ext cx="3876480" cy="3888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marL="431640" indent="-43164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3.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드라이버 설치방법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(XP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9:56:02Z</dcterms:created>
  <dc:creator>박병선</dc:creator>
  <dc:description/>
  <dc:language>en-US</dc:language>
  <cp:lastModifiedBy>김수진1</cp:lastModifiedBy>
  <dcterms:modified xsi:type="dcterms:W3CDTF">2011-09-26T05:42:35Z</dcterms:modified>
  <cp:revision>506</cp:revision>
  <dc:subject/>
  <dc:title>슬라이드 1</dc:title>
</cp:coreProperties>
</file>